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C92-676A-4836-BA53-98FD3ACE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069-6DF4-4C8B-A820-4AA06E5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30D-5E65-460B-A8A5-5C7DB1AB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54A-CBC7-4681-89D9-352817CA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236-7AA9-4989-B2B8-7919FD2C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81B-C41A-4516-86CD-F3E9E71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D8A-B38D-4E3D-A3C0-F4F722B9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E0F-733F-433A-9999-C1A147B6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8A1-1E26-4D4C-B1DF-726BAD4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8EF-94AD-46AB-8291-C1146B9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246-F08F-4ACA-BF87-D622465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6E1-6DA5-48E3-B2B0-D0C375D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C0A-26AD-4AC6-BBA5-B7EE077D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43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fting th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 the template to craft the goal a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736720"/>
            <a:ext cx="6245280" cy="509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fic skills)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3513240"/>
            <a:ext cx="776628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groups and grade levels of 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8520" y="4238640"/>
            <a:ext cx="243540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cent of 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7240" y="4998960"/>
            <a:ext cx="4922640" cy="50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of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57560" y="5667480"/>
            <a:ext cx="577044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me of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42840" y="6291360"/>
            <a:ext cx="251640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nth and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33560" y="2457360"/>
            <a:ext cx="1785960" cy="739800"/>
            <a:chOff x="1033560" y="2457360"/>
            <a:chExt cx="1785960" cy="739800"/>
          </a:xfrm>
        </p:grpSpPr>
        <p:sp>
          <p:nvSpPr>
            <p:cNvPr id="51" name=""/>
            <p:cNvSpPr/>
            <p:nvPr/>
          </p:nvSpPr>
          <p:spPr>
            <a:xfrm>
              <a:off x="1033560" y="2782800"/>
              <a:ext cx="52848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1000" y="2457360"/>
              <a:ext cx="12985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55840" y="2706840"/>
              <a:ext cx="2379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080" y="2286000"/>
            <a:ext cx="1020600" cy="849240"/>
            <a:chOff x="46080" y="2286000"/>
            <a:chExt cx="1020600" cy="849240"/>
          </a:xfrm>
        </p:grpSpPr>
        <p:sp>
          <p:nvSpPr>
            <p:cNvPr id="55" name=""/>
            <p:cNvSpPr/>
            <p:nvPr/>
          </p:nvSpPr>
          <p:spPr>
            <a:xfrm>
              <a:off x="522360" y="2782800"/>
              <a:ext cx="449280" cy="352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080" y="2286000"/>
              <a:ext cx="1020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aff who will do the 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32960" y="2649600"/>
              <a:ext cx="399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measu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558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fting th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55840" cy="11937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31920" y="1828800"/>
            <a:ext cx="8583480" cy="4581000"/>
            <a:chOff x="331920" y="1828800"/>
            <a:chExt cx="8583480" cy="4581000"/>
          </a:xfrm>
        </p:grpSpPr>
        <p:sp>
          <p:nvSpPr>
            <p:cNvPr id="68" name=""/>
            <p:cNvSpPr/>
            <p:nvPr/>
          </p:nvSpPr>
          <p:spPr>
            <a:xfrm>
              <a:off x="2389320" y="2286000"/>
              <a:ext cx="624492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9480" y="3062160"/>
              <a:ext cx="776592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27040" y="3816360"/>
              <a:ext cx="3552840" cy="50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24120" y="4502160"/>
              <a:ext cx="492300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03520" y="5187960"/>
              <a:ext cx="5770440" cy="50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20840" y="5821200"/>
              <a:ext cx="251604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95360" y="2000160"/>
              <a:ext cx="1831680" cy="807840"/>
              <a:chOff x="1395360" y="2000160"/>
              <a:chExt cx="1831680" cy="807840"/>
            </a:xfrm>
          </p:grpSpPr>
          <p:sp>
            <p:nvSpPr>
              <p:cNvPr id="75" name=""/>
              <p:cNvSpPr/>
              <p:nvPr/>
            </p:nvSpPr>
            <p:spPr>
              <a:xfrm>
                <a:off x="1395360" y="2292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l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95360" y="2292120"/>
                <a:ext cx="685800" cy="51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28520" y="2000160"/>
                <a:ext cx="12985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Commi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863720" y="2255760"/>
                <a:ext cx="2379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84200" y="3054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1920" y="38163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 th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1920" y="45784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ll demonst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1920" y="51879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 measur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4200" y="5950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07880" y="1828800"/>
              <a:ext cx="1020600" cy="974880"/>
              <a:chOff x="407880" y="1828800"/>
              <a:chExt cx="1020600" cy="974880"/>
            </a:xfrm>
          </p:grpSpPr>
          <p:sp>
            <p:nvSpPr>
              <p:cNvPr id="85" name=""/>
              <p:cNvSpPr/>
              <p:nvPr/>
            </p:nvSpPr>
            <p:spPr>
              <a:xfrm>
                <a:off x="636480" y="2325960"/>
                <a:ext cx="609480" cy="47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07880" y="1828800"/>
                <a:ext cx="10206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taff who will do the wor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1061280" y="2063520"/>
                <a:ext cx="7308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7920" y="229716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0:46:47Z</dcterms:created>
  <dc:creator>mhauser</dc:creator>
  <dc:description/>
  <dc:language>en-US</dc:language>
  <cp:lastModifiedBy>mhauser</cp:lastModifiedBy>
  <dcterms:modified xsi:type="dcterms:W3CDTF">2008-09-15T20:11:14Z</dcterms:modified>
  <cp:revision>2</cp:revision>
  <dc:subject/>
  <dc:title>Visualize the Future</dc:title>
</cp:coreProperties>
</file>